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34871"/>
        <c:axId val="12938013"/>
      </c:barChart>
      <c:catAx>
        <c:axId val="58034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38013"/>
        <c:crosses val="autoZero"/>
        <c:auto val="1"/>
        <c:lblAlgn val="ctr"/>
        <c:lblOffset val="100"/>
        <c:noMultiLvlLbl val="0"/>
      </c:catAx>
      <c:valAx>
        <c:axId val="12938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34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E91-CEC3-4ED1-9557-BEC5272C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87A-B47C-43FF-B20F-B97C7AA6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623-398E-4848-9795-57F2EAE3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C61-FD3E-451A-BD31-96E5E80B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5F3-4721-4CB9-A022-F300C4E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33A-0528-40F5-AFB0-25A7CE38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577-AFB9-442F-8859-C2EC0B17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B80-20B2-4D03-BCA6-5F33AC31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5AF-F527-4863-B366-FF9940C7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E39-E2E2-4696-B962-F01C408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559-B6FD-45A9-9617-0281BAF1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13E-01F7-4CB3-A4B5-E5CB5C2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DC1CB-CF46-4B72-9DD2-157723B09D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