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88752"/>
        <c:axId val="24942508"/>
      </c:barChart>
      <c:catAx>
        <c:axId val="28688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42508"/>
        <c:crosses val="autoZero"/>
        <c:auto val="1"/>
        <c:lblAlgn val="ctr"/>
        <c:lblOffset val="100"/>
        <c:noMultiLvlLbl val="0"/>
      </c:catAx>
      <c:valAx>
        <c:axId val="24942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88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432-0729-4EB7-B578-2CD29017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658-0683-46B1-8261-23C479BB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085-1900-46AE-BF30-78383482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A71-8F4F-4D17-A9B3-9AE25242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F78-6C68-4EAC-9050-2AA4D93E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A8B-348A-4520-A775-B85E2F6C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77C-6CFE-4CAF-A367-01E7E8D3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9CC-6CD8-40BF-A839-27CD5D96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E4C-F154-430A-81B0-35D99081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BF4-356C-412A-B58F-261F7C5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ED5-FF05-41F9-8E81-B8049B3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CCF-D8D2-49ED-92FA-BB1DA8D8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70797-9E74-4BC2-BC6A-32F9354E0D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